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416-97AC-40FD-84BD-2785CA9F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DB1-0812-4227-9CE2-7BD5C47A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686-9B23-46FA-AFD3-570E2697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DD4-2C43-4C40-962D-80CA1BB1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AD76-E3BD-4CB4-9BFB-ABAA22D2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1839-79AF-443F-B8C9-7751EECF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7F6-5C4C-494D-856A-736F1CD3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F244-8EC1-4EE5-A72F-28BF94E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5B1E-B582-4867-A054-9EBD16FA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67AD-7FDA-4C6D-B47D-3FC79533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CE7E-CBFE-4825-BC6D-420561D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18C-A4C8-4BA2-ACEC-1709E8F3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107B-0363-404E-8256-BCFAE658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E892-3223-4259-AA3D-BF36B96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4D15-90D0-4FCA-B4DC-BCB94493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46CE-600D-4D6C-A71C-3CFD42D1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5215-3F4A-4EA7-978D-C48276FA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F1D-11B5-46EB-8119-B9D66B07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4CD-16D8-4C5E-B3EC-4BF8018A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64B-45AF-485D-AEAC-D77E4221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C0E-A242-4D46-9041-CE81E8AE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67E-74F6-47BF-ABC8-D04774D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AA4-C472-4388-92D3-1A0F748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87E-A270-4809-9430-46E4185C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E9CC-9428-4CCE-AF8F-2E99C86B60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E43B-1901-46D2-8D70-9CAB80C12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2934-EAA4-46E2-B22F-638AC11437A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FAAE-F8DA-4BB9-BD2D-A1FCD6863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9280" y="1412640"/>
            <a:ext cx="80769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mperfect vs. Preterit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spects of the Pas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87640" y="4076640"/>
            <a:ext cx="4576680" cy="13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9B86-4FC2-4008-AC98-7879E54F6F9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DE2EA1-098A-4F91-8BFE-C98221EB621A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fill="hold">
                <p:childTnLst>
                  <p:par>
                    <p:cTn id="3" fill="hold">
                      <p:stCondLst>
                        <p:cond evt="onBegin"/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-Er and –Ir Imperfect E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 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 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sotros 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 ellas 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e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4BE-907C-487A-AEFF-1B92802003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3D059-87B7-463A-B11D-DE02C8B6C676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rregular Verbs in the Imperfect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r (to 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b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 (to s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r (to 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7640" y="3716280"/>
            <a:ext cx="1419480" cy="2133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43640" y="3681360"/>
            <a:ext cx="2879640" cy="21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03C-F6C5-4D5E-A677-B966073420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73588-9F46-4AD1-8EB3-6CDF3B75A7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cribe en español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eating when sh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m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ando ella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llam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te, then I played and lastly I stu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m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uego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jugu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último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estudi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E59-01D6-4383-B5B7-6B8FB28572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A0A42-10E2-4B9D-9AF8-EAC503A3A6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sentenc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ast night we ate pizz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che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mi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very summer we went to the b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los veranos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íb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pla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746-E059-40B7-BE1B-43BEB9AE92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A9D6A-4ABC-4B29-8334-30A033F840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asic uses of the Imperfect Ten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express an 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event or action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going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on in the 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no reference to beginning or end (no specific tim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anta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 el c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used to sing in the cho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E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nte del colegio Immacul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was a student at Immaculata H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27F-240B-4526-8FE3-B51C3C44EA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8FE0B-275A-434B-BFD7-09B16B62FFC3}" type="datetime1">
              <a:rPr lang="en-US"/>
              <a:t>07/30/26</a:t>
            </a:fld>
          </a:p>
        </p:txBody>
      </p:sp>
    </p:spTree>
  </p:cSld>
  <p:transition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6000" y="225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Imperfect Ten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express 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repeated 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ast. (todos los días, siempre, muchas veces, cada verano, etc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e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periódico todos los dí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used to read the paper every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verano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íb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pla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used to go to the beach each su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215-A59E-49AA-BE94-E830138D8F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A69F5-44C7-423B-8823-B69C641225FE}" type="datetime1">
              <a:rPr lang="en-US"/>
              <a:t>07/30/26</a:t>
            </a:fld>
          </a:p>
        </p:txBody>
      </p:sp>
    </p:spTree>
  </p:cSld>
  <p:transition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Rul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xpressing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ast. (setting the st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tiemp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c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was the weather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c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ío y llov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was cold and it r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6000" y="2700360"/>
            <a:ext cx="2663640" cy="237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33E-E139-4366-A0A5-1D4FE3533F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3CD07-6141-43E8-B17F-C7178DD25D0B}" type="datetime1">
              <a:rPr lang="en-US"/>
              <a:t>07/30/26</a:t>
            </a:fld>
          </a:p>
        </p:txBody>
      </p:sp>
    </p:spTree>
  </p:cSld>
  <p:transition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erfect ten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o tell what time it 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ast. Preterite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¿Qué hor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time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una en punto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was on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35640" y="4400640"/>
            <a:ext cx="1952640" cy="16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795-38FF-47F6-95E2-4D137D9DEB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8C923-AE5F-4A6A-9C4D-5AAB7CB46F60}" type="datetime1">
              <a:rPr lang="en-US"/>
              <a:t>07/30/26</a:t>
            </a:fld>
          </a:p>
        </p:txBody>
      </p:sp>
    </p:spTree>
  </p:cSld>
  <p:transition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-91080"/>
            <a:ext cx="8015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erfect is also used to expres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elings, physical sens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sually) an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ntal 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sual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chiquito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e sent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o porque no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ení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os amig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681-8A9E-4110-9885-ADFE2255A7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3F754-9CAC-40EE-BC1A-B21D4C3173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Imperfect    vs.  The Preterit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action in the past. Action being in process. No specific time is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tual events.(todos los días, siempre, cada ver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event or background cut by preteri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completed in the past. One tim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ime is given.  (anoche, esta mañana, en 19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mber of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 action that was taking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3B0-02A6-4B52-9D9C-8CCE27060A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85F8B-CB57-4B91-BDA3-02C0FA75D1A7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erfect     vs   Preteri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actions at the same time. (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Com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ent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le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was eat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 was 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ad and heart ver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 and d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llling time and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as a series of ev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words are used. (primero, luego, después et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dden change in condition, state or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2C9-5821-428B-94C7-36BFA72272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CBE10-DC73-4B6E-BA5C-6D595D219F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erfect Tense of –Ar Verb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, 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sotr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áb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sotros 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, ellas 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492360" y="4294080"/>
            <a:ext cx="1621080" cy="2563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2A9-7C43-4CF1-B2D5-96B7302517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E8BAC-6B4F-473F-B2A8-7E8999745B00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HS</cp:lastModifiedBy>
  <dcterms:modified xsi:type="dcterms:W3CDTF">2010-05-03T12:36:0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